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60F-69B6-4134-8077-F964D8E3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3EE-2E28-484B-943B-BF876B1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15F-C1D8-417E-8B88-B90700D7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699-89D8-4E68-91A7-F932A423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736-56AF-4CB3-B71A-0E54BE5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4D0-2C8D-48ED-8C9B-B152EDF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A50-981A-4DC7-9908-A0E2ABC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D41-83A9-455C-8F75-5BA8BC10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D10-63E1-4E0A-B095-9E9AA5A4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022-8EF3-4AC6-8E12-BFCBCAB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862-C74E-481A-B56B-CE4655D0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280-6F58-4340-802B-9A8A85C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DED-41C1-48E8-888E-71DAFE0660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B877-D880-4FE3-A065-BAEB18F0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3623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da Rush - Notre Dame Schoo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A9932-6456-4A48-83AB-6EEA45B11BD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yd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h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uti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4085"/>
          <a:stretch/>
        </p:blipFill>
        <p:spPr>
          <a:xfrm>
            <a:off x="152280" y="200160"/>
            <a:ext cx="8763120" cy="6352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g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ch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30492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304920" y="22860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763120" cy="642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15228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f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5600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514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21:45:55Z</dcterms:created>
  <dc:creator>Linda Rush</dc:creator>
  <dc:description/>
  <dc:language>en-US</dc:language>
  <cp:lastModifiedBy>kennedyp</cp:lastModifiedBy>
  <dcterms:modified xsi:type="dcterms:W3CDTF">2010-11-18T15:49:53Z</dcterms:modified>
  <cp:revision>6</cp:revision>
  <dc:subject/>
  <dc:title>Slide 1</dc:title>
</cp:coreProperties>
</file>